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22.png" ContentType="image/png"/>
  <Override PartName="/ppt/media/image5.png" ContentType="image/png"/>
  <Override PartName="/ppt/media/image20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50A4-0E08-4CE0-A691-0815AECA1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8E4D-B097-43BD-B28A-314AD36DC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AA3B-F106-430F-934F-F860F9139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DBE9-7DEB-4D59-891A-A276A628D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7F826-2D11-49E7-83BE-FFDC42D99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2CDDE-AEE6-404F-ADFF-43B3BFE86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CB6A0-27E4-4F08-92D2-6BAC36591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62811-3BD5-4ACA-B361-6BD8D1DAB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EC6B2-89B1-4670-89E5-E9555CD85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3B056-1D1B-4CA5-A017-8F72348D5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2481B-4ED5-4FCA-93DC-96655FB9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F111-296F-44A2-A2B2-EE5B14D15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FE3BE-8DBB-4BDA-95B1-C84565E1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51DBA-764B-454F-BEE5-3225BFBB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DD151-6CFB-44C4-9AD1-2EAEF2FDA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8CF46-FE84-4D6D-9C44-C88011988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B1CFE-B815-4442-B283-12A977DE7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7AB9-DE99-4904-93FD-3FDCD62D8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2473-E282-40AB-9C5A-484701FC9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05B2-0F49-42B5-A03D-11A487630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DC2E-38C2-47E3-96B9-5B9523DB0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38CD-C9B9-4B01-821C-708BCBA5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AF10-24E5-419D-B20D-956B35D6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BCEE-781F-427D-A34D-257441E4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6CFC7-F52F-480A-BF85-52D1B0E51C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53BFA-C722-441F-8722-9B17B2ECF2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2819160" y="198108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971800" y="304920"/>
            <a:ext cx="3867120" cy="191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tudy Tips For A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Great Education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In Math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04920" y="5410080"/>
            <a:ext cx="2286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Created By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Lynn Husen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Husenl@aol.com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87" name="bugst" descr=""/>
          <p:cNvPicPr/>
          <p:nvPr/>
        </p:nvPicPr>
        <p:blipFill>
          <a:blip r:embed="rId1"/>
          <a:stretch/>
        </p:blipFill>
        <p:spPr>
          <a:xfrm>
            <a:off x="4038480" y="2895480"/>
            <a:ext cx="4010040" cy="3581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219320" y="3352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742840" y="1523520"/>
            <a:ext cx="60958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Learning to work together in a group is an important skill.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Whether the project is with school, community, or family, the group that is able to work together will have good results.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To make a group more effective, practice these good work habits.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124080" y="0"/>
            <a:ext cx="429588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Working Together 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Find A Math Buddy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3880" y="1905120"/>
            <a:ext cx="609624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33520" y="4800600"/>
            <a:ext cx="171432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Cooperation - </a:t>
            </a: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The only way a group can cooperate and work together successfully is to use common courtesy and share a common goal.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Everyone in the group should take part in the project and no one should be left out.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429000" y="457200"/>
            <a:ext cx="40766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Good Work Habits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3905280"/>
            <a:ext cx="26049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819160" y="1676520"/>
            <a:ext cx="60958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entury Schoolbook"/>
              </a:rPr>
              <a:t>Responsibility - </a:t>
            </a:r>
            <a:r>
              <a:rPr b="0" lang="en-US" sz="3200" spc="-1" strike="noStrike">
                <a:solidFill>
                  <a:srgbClr val="009999"/>
                </a:solidFill>
                <a:latin typeface="Century Schoolbook"/>
              </a:rPr>
              <a:t>Success is learning and reaching the goals of the group.  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entury Schoolbook"/>
              </a:rPr>
              <a:t>You need to be responsible for yourself and for the whole group.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entury Schoolbook"/>
              </a:rPr>
              <a:t>Do your assigned task carefully and help others do theirs.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429000" y="457200"/>
            <a:ext cx="45054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Good Work Habits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24" name="kids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21477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Listening -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Listen to group members as they explain the methods they used to solve a problem.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For many problems there are alternate solutions, and you can learn a lot by listening to others explain their thinking.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276720" y="380880"/>
            <a:ext cx="45050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Good Work Habits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33520" y="3276720"/>
            <a:ext cx="1390680" cy="29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2819160" y="1294920"/>
            <a:ext cx="60958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Encouragement - </a:t>
            </a: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Give words of encouragement and credit a job well done or a good suggestion. 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Persons in the group who feel their efforts are appreciated will contribute more and feel better about their contributions.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Remember to be </a:t>
            </a: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courteous.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8120" y="228600"/>
            <a:ext cx="45050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Good Work Habits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3905280"/>
            <a:ext cx="2819520" cy="263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819160" y="1066680"/>
            <a:ext cx="60958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Decision Making - </a:t>
            </a: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The group often must decide what the project will be and when, where, and how to do it.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Be sure to state your points clearly.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But also, be willing to follow a different but equally good plan.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124080" y="304920"/>
            <a:ext cx="45054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Good Work Habits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76040" y="2895480"/>
            <a:ext cx="26434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819160" y="990360"/>
            <a:ext cx="60958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Creativity - </a:t>
            </a: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Apply what you already know to learn new concepts, but be open-minded about new approaches and strategies.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Look for rules, patterns, and strategies.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Explore and make sense of new ideas as you work together to try to make new connections.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200400" y="0"/>
            <a:ext cx="45054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Good Work Habits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09480" y="3124080"/>
            <a:ext cx="96228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819160" y="1371240"/>
            <a:ext cx="60958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If you can’t seem to get things done on time (or at all), you might want to practice time management.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This will help you organize both your study time and your free time more efficiently since you should be spending less time on procrastination!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819520" y="304920"/>
            <a:ext cx="491472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Managing Your Time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226692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2819160" y="1218960"/>
            <a:ext cx="6095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Keeping a Weekly Schedule </a:t>
            </a: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A weekly planner helps you organize your assignments and plan for time to complete them.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It allows you to plan ahead and prepare for exams, projects, or assignments.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Keep this schedule in your notebook or in your math journal.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819520" y="380880"/>
            <a:ext cx="491472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Managing Your Time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42" name="time" descr=""/>
          <p:cNvPicPr/>
          <p:nvPr/>
        </p:nvPicPr>
        <p:blipFill>
          <a:blip r:embed="rId1"/>
          <a:stretch/>
        </p:blipFill>
        <p:spPr>
          <a:xfrm>
            <a:off x="0" y="4022640"/>
            <a:ext cx="266688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2819160" y="837720"/>
            <a:ext cx="60958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Make a Daily List - </a:t>
            </a: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Write down things you need to do today and must do tomorrow.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Number them in order of importance.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Hang the list is a place where it is easy to check.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Check off items as you complete them.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8120" y="0"/>
            <a:ext cx="491472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Managing Your Time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45" name="girl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828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11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Taking Notes and Keeping a Journal</a:t>
            </a: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  <a:p>
            <a:pPr marL="335880" indent="-335880">
              <a:spcBef>
                <a:spcPts val="11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99"/>
                </a:solidFill>
                <a:latin typeface="Arial"/>
              </a:rPr>
              <a:t>Listening Skills</a:t>
            </a:r>
            <a:endParaRPr b="0" lang="en-US" sz="4800" spc="-1" strike="noStrike">
              <a:solidFill>
                <a:srgbClr val="009999"/>
              </a:solidFill>
              <a:latin typeface="Arial"/>
            </a:endParaRPr>
          </a:p>
          <a:p>
            <a:pPr marL="335880" indent="-335880">
              <a:spcBef>
                <a:spcPts val="11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99"/>
                </a:solidFill>
                <a:latin typeface="Arial"/>
              </a:rPr>
              <a:t>Working Together</a:t>
            </a:r>
            <a:endParaRPr b="0" lang="en-US" sz="4800" spc="-1" strike="noStrike">
              <a:solidFill>
                <a:srgbClr val="009999"/>
              </a:solidFill>
              <a:latin typeface="Arial"/>
            </a:endParaRPr>
          </a:p>
          <a:p>
            <a:pPr marL="335880" indent="-335880">
              <a:spcBef>
                <a:spcPts val="11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99"/>
                </a:solidFill>
                <a:latin typeface="Arial"/>
              </a:rPr>
              <a:t>Managing Your Time</a:t>
            </a:r>
            <a:endParaRPr b="0" lang="en-US" sz="4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581280" y="457200"/>
            <a:ext cx="444816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Follow These Four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tudy Tips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4195800"/>
            <a:ext cx="2133720" cy="211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2819160" y="1143000"/>
            <a:ext cx="60958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Have a Homework Schedule </a:t>
            </a: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Set aside a specific time for doing homework assignments.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Allow yourself short breaks between each assignment.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Do not make any break longer than 5 minutes, so you can finish your homework accurately and quickly.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8120" y="228600"/>
            <a:ext cx="491472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Managing Your Time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48" name="time" descr=""/>
          <p:cNvPicPr/>
          <p:nvPr/>
        </p:nvPicPr>
        <p:blipFill>
          <a:blip r:embed="rId1"/>
          <a:stretch/>
        </p:blipFill>
        <p:spPr>
          <a:xfrm>
            <a:off x="0" y="4572000"/>
            <a:ext cx="266688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2819160" y="990360"/>
            <a:ext cx="60958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Set Goals - </a:t>
            </a: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Set realistic goals and reward yourself for completing tasks that you set for yourself.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Do not be too hard on yourself. 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Try to learn from goals or tasks that you don’t quite achieve.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Reward yourself for reaching key goals.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76720" y="304920"/>
            <a:ext cx="491472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Managing Your Time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51" name="boy" descr=""/>
          <p:cNvPicPr/>
          <p:nvPr/>
        </p:nvPicPr>
        <p:blipFill>
          <a:blip r:embed="rId1"/>
          <a:stretch/>
        </p:blipFill>
        <p:spPr>
          <a:xfrm>
            <a:off x="0" y="4114800"/>
            <a:ext cx="269568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2819160" y="1066680"/>
            <a:ext cx="60958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Get It Done and Turn It In On Time - </a:t>
            </a: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Go over all the directions your teacher has given you for completing an assignment.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Check your notes and your textbook to make sure that you know how to accurately complete an assignment.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124080" y="228600"/>
            <a:ext cx="49150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Managing Your Time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54" name="time" descr=""/>
          <p:cNvPicPr/>
          <p:nvPr/>
        </p:nvPicPr>
        <p:blipFill>
          <a:blip r:embed="rId1"/>
          <a:stretch/>
        </p:blipFill>
        <p:spPr>
          <a:xfrm>
            <a:off x="0" y="3962520"/>
            <a:ext cx="24670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819160" y="1143000"/>
            <a:ext cx="60958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Turning In The Assignment </a:t>
            </a: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Keep completed assignments someplace where you can’t possibly forget to take them to school.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On the floor by the door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Put in your book bag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With your lunch money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In your math folder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124080" y="228600"/>
            <a:ext cx="49150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Managing Your Time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57" name="backpac" descr=""/>
          <p:cNvPicPr/>
          <p:nvPr/>
        </p:nvPicPr>
        <p:blipFill>
          <a:blip r:embed="rId1"/>
          <a:stretch/>
        </p:blipFill>
        <p:spPr>
          <a:xfrm>
            <a:off x="304920" y="3505320"/>
            <a:ext cx="206208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Think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 how helpful notes can be to you.  Notes should help you remember what you learned in class.</a:t>
            </a: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62120" y="380880"/>
            <a:ext cx="8001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aking Notes and Keeping a Journal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4" name="eleph" descr=""/>
          <p:cNvPicPr/>
          <p:nvPr/>
        </p:nvPicPr>
        <p:blipFill>
          <a:blip r:embed="rId1"/>
          <a:stretch/>
        </p:blipFill>
        <p:spPr>
          <a:xfrm>
            <a:off x="0" y="396252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99"/>
                </a:solidFill>
                <a:latin typeface="Arial"/>
              </a:rPr>
              <a:t>Notes should also serve as a guide when you try exercises on your own.</a:t>
            </a:r>
            <a:endParaRPr b="0" lang="en-US" sz="4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981080" y="609480"/>
            <a:ext cx="6572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aking Notes In Math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7" name="takenote" descr=""/>
          <p:cNvPicPr/>
          <p:nvPr/>
        </p:nvPicPr>
        <p:blipFill>
          <a:blip r:embed="rId1"/>
          <a:stretch/>
        </p:blipFill>
        <p:spPr>
          <a:xfrm>
            <a:off x="316080" y="3581280"/>
            <a:ext cx="211608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Comic Sans MS"/>
              </a:rPr>
              <a:t>Make notes on any new concepts and formulas you have just learned.</a:t>
            </a:r>
            <a:endParaRPr b="0" lang="en-US" sz="3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Comic Sans MS"/>
              </a:rPr>
              <a:t>Write down any concepts your teacher put on the board.  You’ll need to know these for a test.</a:t>
            </a:r>
            <a:endParaRPr b="0" lang="en-US" sz="36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209680" y="914400"/>
            <a:ext cx="6572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aking Notes In Math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3962520"/>
            <a:ext cx="3124080" cy="23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438280" y="2057040"/>
            <a:ext cx="647712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If your teacher gives you problems to solve, look back over your notes for help.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Note-taking improves your understanding of new topics because it makes you listen carefully and focus on the key details.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0" y="762120"/>
            <a:ext cx="65721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aking Notes In Math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4584600"/>
            <a:ext cx="251460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A math journal is a good place to record examples as well as fun facts about mathematics.</a:t>
            </a: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8120" y="609480"/>
            <a:ext cx="45910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Keeping A Journal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2324160" cy="26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819160" y="1600200"/>
            <a:ext cx="6095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Comic Sans MS"/>
              </a:rPr>
              <a:t>Write about new vocabulary, use symbols with examples, and draw diagrams or illustrations.</a:t>
            </a:r>
            <a:endParaRPr b="0" lang="en-US" sz="3600" spc="-1" strike="noStrike">
              <a:solidFill>
                <a:srgbClr val="009999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Comic Sans MS"/>
              </a:rPr>
              <a:t>Include descriptions or discussions of how mathematics is used in the world around you.</a:t>
            </a:r>
            <a:endParaRPr b="0" lang="en-US" sz="36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00400" y="380880"/>
            <a:ext cx="45910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Keeping A Journal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0760" y="4648320"/>
            <a:ext cx="17859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124080" y="0"/>
            <a:ext cx="39625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Listening Skills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819160" y="1143000"/>
            <a:ext cx="60958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Listen attentively - </a:t>
            </a: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Think about what the teacher is saying and how the problem is being solved.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9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Ask a question if you are uncertain about a particular step or part of a solution</a:t>
            </a:r>
            <a:r>
              <a:rPr b="0" lang="en-US" sz="3600" spc="-1" strike="noStrike">
                <a:solidFill>
                  <a:srgbClr val="009999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9999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9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Comic Sans MS"/>
              </a:rPr>
              <a:t>By listening, you will also be ready to respond if you are called upon.</a:t>
            </a:r>
            <a:endParaRPr b="0" lang="en-US" sz="36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4114800"/>
            <a:ext cx="27432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4:52:00Z</dcterms:created>
  <dc:creator>Ralph Holt</dc:creator>
  <dc:description/>
  <dc:language>en-US</dc:language>
  <cp:lastModifiedBy>Jefferson County Schools</cp:lastModifiedBy>
  <dcterms:modified xsi:type="dcterms:W3CDTF">2000-01-11T18:04:10Z</dcterms:modified>
  <cp:revision>18</cp:revision>
  <dc:subject/>
  <dc:title>STUDY TIPS FOR A GREAT EDUCATION</dc:title>
</cp:coreProperties>
</file>